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5694B-8FEC-4EAD-90BA-7B65838D67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13138-A2C8-4047-A1C2-007B4AC64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14578-18C6-425C-8C9A-070B2C852D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05133-58E7-417D-A691-4232DF2E4E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5D99C-CFD4-4897-B8C6-7DB857413A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FE08F-BA0B-4CBD-BEE9-AAD3DE0F16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5A282-1521-4EC1-8BE5-FF435048C7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2287B-ADB1-480A-9CB9-345E5D244C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97A-A839-494F-94E8-F34A991A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3FD-DF31-4165-8595-B209575E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060-588E-4245-8B84-6CF2C02E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CD2-D40B-4605-B6AC-406634D1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75307-DEE4-4F53-B929-49EDBEAF98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2C510-8230-4543-90B3-DE343F59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E783E-8F30-4ACC-B89F-1F74F924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156C6-918C-4C12-9FA5-9DB57DC1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8E4C5-E6F7-43BF-BFA6-74D25A4A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52DB6-838A-4717-930C-B8C9C525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FB8BB-7E91-40D3-9679-EFB7A5C6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F4A-9927-4A81-BC00-D2373577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918B6-6D9C-4B27-97ED-6D773743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43D17-A501-4E6F-821A-BEEB2D46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FAA3E-F520-4A7C-8AC7-A7392DD3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FD7C1-4001-4FC8-A42C-503D3E9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32E67-199B-43B3-8F1A-9A0A7396F9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75A-C4F3-4DC0-A68D-5CB1D156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3C6-1001-4C75-AD2D-A75ACA10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26E-2065-4267-A669-33AA7BF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4C2-2D73-4872-96B0-67EEAFF1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9FB-FE5A-4AA5-81D1-99D87EA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B02-A004-4E4D-B9FF-083F2771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EEA-4F3A-412A-807C-2F701AFC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575C9-1EFB-46C0-9FA6-D28E7B0B790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32D42-C2C2-4F19-A3FF-C3603C0649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4609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019920"/>
            <a:ext cx="21337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4A461-C11F-41B5-B334-2EA8243DB7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governmental Relations Tod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3 – Federalis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cramble for Federal Dolla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$460 billion in grants every ye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ant distribution follows universalism—a little something for everybod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andate B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dates direct states or local governments to comply with federal rules under threat of penalties or as a condition of receipt of a federal gra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funded Mand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dates for which federal government provides no mone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Clean Air Act, Americans with Disabilities Act, NCL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tempted restriction with Unfunded Mandate Act of 199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governmental Rel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olitics of Federal Gra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ublicans generally favor fewer strings, less supervision, and the delegation of spending discretion to the state and local government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mocrats have generally been less supportive of broad discretionary block grants, instead favoring more detailed, federally supervised spending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u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ition: a system of government in which both the states and the national government remain supreme within their own spheres, each responsible for some polic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ke a layer c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rrowly interpreted powers of federal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ded in the 1930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perative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ition: a system of government in which powers and policy assignments are shared between states and the national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ke a marble ca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d costs and admini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tes follow federal guideli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volution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volu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ransferring responsibility for policies from the federal government to state and local governmen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how the relationship between the federal and state government changed in the 1980s, 1994, and 2000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efinition: the pattern of spending, taxing, and providing grants in the federal syste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Grants-in-Ai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deral funds appropriated by Congress for distribution to state and local govern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ain instrument the national government uses for influencing state and local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720" y="152280"/>
            <a:ext cx="7680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tergovernmental Relations Tod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2"/>
          <a:stretch/>
        </p:blipFill>
        <p:spPr>
          <a:xfrm>
            <a:off x="1936800" y="1004760"/>
            <a:ext cx="5602320" cy="54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Grant System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alibri"/>
              </a:rPr>
              <a:t>Categorical Grants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: Federal grants that can be used for specific purposes; grants with strings attached (Ex: school lunch program within an education budget) ; often times given on a matching basi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Project Grants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: Funds are competitive and go towards projects within the states. (Ex: National Science Foundation grants to universities to support the work of scientists.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Formula Grants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: Usually given on the basis of need. Money given to states according to a mathematical formula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scal Federalis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rant System: (con’t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Block Gran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Federal grants given to a state government to be spent within a certain policy area (ex: welfare, education), which the state can decide how to spend within that area. Given more or less automatically to support broad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ants are given to states and local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1" descr=""/>
          <p:cNvPicPr/>
          <p:nvPr/>
        </p:nvPicPr>
        <p:blipFill>
          <a:blip r:embed="rId2"/>
          <a:stretch/>
        </p:blipFill>
        <p:spPr>
          <a:xfrm>
            <a:off x="453960" y="345960"/>
            <a:ext cx="833436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12:46Z</dcterms:created>
  <dc:creator>Katie Madison</dc:creator>
  <dc:description/>
  <dc:language>en-US</dc:language>
  <cp:lastModifiedBy>FAdmin</cp:lastModifiedBy>
  <dcterms:modified xsi:type="dcterms:W3CDTF">2011-09-13T15:17:00Z</dcterms:modified>
  <cp:revision>5</cp:revision>
  <dc:subject/>
  <dc:title>Intergovernmental Relations Today</dc:title>
</cp:coreProperties>
</file>